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246-153F-43BC-A1F5-81A814BC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542-98C9-4928-8930-7320ED8F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0B6-8576-4780-B13B-B8FE7899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FA1-2D7B-4C8E-8257-38A5906D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2CB-F8E0-45B1-B27D-EFD37D7A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ABF-0FB7-45DC-9ADA-8B194A1D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241-A03D-482E-B24B-4C4505BF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735-D1E6-4231-B71B-ED897357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13A-0DFF-4C27-94BF-BF6172E9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008-71B5-446E-8EA6-FF3D2CC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195-BA00-4104-9BE0-EE07B481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66A-8E01-4B62-87B1-6474AAE5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0365-22D3-492F-AA92-F7D838DC7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les0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les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les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les1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les1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les1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les1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les1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les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les1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les1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les0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les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les0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les0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les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les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les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les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8:01:47Z</dcterms:created>
  <dc:creator>fabio.medessi</dc:creator>
  <dc:description/>
  <dc:language>en-US</dc:language>
  <cp:lastModifiedBy>fabio.medessi</cp:lastModifiedBy>
  <dcterms:modified xsi:type="dcterms:W3CDTF">2010-07-19T09:16:47Z</dcterms:modified>
  <cp:revision>3</cp:revision>
  <dc:subject/>
  <dc:title>Presentazione di PowerPoint</dc:title>
</cp:coreProperties>
</file>